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8E8-6FE6-408C-B872-FF3F17805D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E46-0598-4320-811A-7105C9E7AF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A774-1A92-46CA-9539-E09965CEEC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99C1-F19B-4881-9585-91F46907B3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30B-EEE7-4DA8-97B0-66B9CDBDBD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16B2-4E0C-4D6E-8F06-31D2A92C82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71B-D90F-4E6C-A45B-031811B97A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D89-C785-48C1-8E50-005906C13B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B0D4-FEBF-479E-A24B-BEF3B45CC0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8516-430A-4B84-9B99-BB899405D9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20AF-0BE5-4E68-8002-9D7B1C43AD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1AA-D0D3-455A-9909-F84ACA3AD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A0FA-430B-49E9-B679-71631203D9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46F-2E57-43F5-B6D4-CFA1E691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F55-9143-49A1-8D6E-DAA4FD1F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B47-D596-442F-8F58-B603363D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5D4-4AB3-44A9-8A62-D7623F0D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207-108D-4AD4-B342-11944A8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BED-053D-49A5-B0FD-1465721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747-B047-4C30-A6F4-DF9E89C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03C-A603-4FB4-BE74-C69CA3F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5A6-76F3-4174-944C-9805C63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09B-BF1A-4391-B35C-183F914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393-F2D4-4780-808B-DE68103D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8E8-8E24-4CC3-8A75-AD5D71C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BC3-6E14-4C41-BB86-D1E5A4BD7B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cial Exclusion in the UK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63272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len Bram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iot-Watt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700360" y="56815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verty and Social Exclusion in the Scotland and the 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inar – Edinburgh 20 August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655344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11280" y="3359160"/>
            <a:ext cx="6553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480360" cy="3137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480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mentioned, an alternative approach to measuring and grouping social exclusion has been developed using continuous measures and factor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suggests tha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roupings (factors) dominate across the pi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. Economic Resources (A1), Social Activities (B2) and Housing (C2H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. Political/Civic Partic (B4) &amp; Cultural /Education (B3/A4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. Family &amp; Social Resources (A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. Neighbourhood Environment (C2N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. Health &amp; Wellbeing (C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correlates with 4; 2. correlates with 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ther domains not strongly related, or only for certain groups (services, work environ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me BSEM domains not well measured (cultural resources, crime/ha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cotl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similar, but with an additional economic participation 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Scotland differ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short answer is ‘no, not ver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 the majority of domains the Scottish score is similar to Ro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4 (/12) domains where Scottish score is significantly differ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Economic, Social Support, Housing, Crime/Victi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in all of these cases Scotland scores lower (=bet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land appears higher on 2 domains, Services and Employment,  but these are not stats signif (Services is marginal, around 10% sig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haps surprising that Scotland is not higher (worse) on Health, Area Pro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land has a significantly lower incidence of 3+ deprivations (not 5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ationships of MDD scores with income &amp; PSE poverty index are very similar between Scotland and RoU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2124000" y="549360"/>
            <a:ext cx="5616720" cy="289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56880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Rural Scotland differ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ottish urban-rural classification is different from RoU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two different ways of grouping (a) rural vs small town (b) remote vs acce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ing at (a) (rural vs rest), only two domains show significant differenc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service exclusion is much greater in rural (50% vs 20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housing deprivation is much less in rural (11% vs 19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king at (b) (remote vs rest), 8 domains are significantly different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only services are worse in remote (40% vs 20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other 7 domains are all better in remote (esp area probs, economic, education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4 domains not significantly different (employment, social activities, civic participation, job qua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main Group scores – Rural Scot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84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graphics of Ex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ross UK, families are worst on 5 domains (economic, services, education, area, housing), working age on 5, elderly on 2 (civic &amp; healt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 renters are worst or = on 10, private renters worst or = on 4 (services, social suppt, housing, job quality), owners on n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aring countries, England is worst on 3, Wales on 4, Scotland on 1 (nss), N Ireland on 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most domains, worst decile of neighbourhoods (low income) have worst performance, but decile 9 is worse in 2 cases (services, education) while job quality is worst in middle of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mographics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39640" y="1641600"/>
            <a:ext cx="74170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991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SE approach to social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ition &amp;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far do domains overlap/correla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- with each other? With pover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Scotland differ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rural Scotland different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mographics’ of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ights into dri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mographics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elling Ex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 can use logistic regression models to explore factors associated with being deprived on each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sheds further light on demographics, on associations between domains, on key drivers including poverty, and on whether there is a ‘Scotland effect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confirms ‘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verlap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’ picture in some cases but modifies it in others (e.g. services more assoc with area, activities; activities more with social &amp; housing; health with social &amp; hous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SE Pover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a strong factor for social activities, health, housing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relatively weak for services, social support, civic participation, crime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area problems, neighbourhood poverty is more imp than ind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cotland effec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till apparent for social suppt (-), soc activities (+), civic partic (-), crime (-); but not for services, health, housing, area (- =&gt; bet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efl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we measure exclusion makes a difference; some measures reported are less adequate than others (e.g. education/culture) and some are only a risk for certain groups e.g. families, wo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BSEM framework is generally helpful and underlines that social exclusion does not all reduce to a single dimension, indistinguishable from pover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support for the Townsend concept of poverty in the strong association with social activities; also strong relationships with health, hou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ever, rather weaker associations with social support, civic participation,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es are interesting for showing the least association with poverty and other domains – evidence perhaps that these do act to counter the general forces of disadvantage to a considerable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otland is more similar than different in most re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st differences show Scotland in a more favourable 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milarly, apart from services, most differences for rural Scotland show this also in a more favourable light, particularly remote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250920" y="587700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Bristol Social Exclusion Matrix (BSE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ess to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ltural (Education and Ski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ivic and 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alth and Well-be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iving Enviro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me, harm and crimin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2700360" y="568152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900000" y="114480"/>
            <a:ext cx="698508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63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68" name="Straight Connector 10"/>
          <p:cNvSpPr/>
          <p:nvPr/>
        </p:nvSpPr>
        <p:spPr>
          <a:xfrm>
            <a:off x="4392720" y="114480"/>
            <a:ext cx="14292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9"/>
          <p:cNvSpPr/>
          <p:nvPr/>
        </p:nvSpPr>
        <p:spPr>
          <a:xfrm>
            <a:off x="6084720" y="61657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yright © University of Bris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asurement &amp;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SEM provided main framework for development of questionnaire, alongside poverty measur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domains are represented, but some more partially than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ponses need to be combined into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approaches – continuous vs discrete – grouping by judgement/concept vs empirically-driven (e.g. factor analys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presentation uses discrete/judgement approach, and stays close to BSEM domains – others have explored alternatives (mention brief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s of Indi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1 – Material Economic Resources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&lt; median income (AHC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acking 3+ necessities (from PSE 25),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dication of subjective poverty (1+ from 5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dication of problem debt or financial stress (1 of 5) (14.9% of adul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3 -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ocial Resources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w scores for social support (7 circumstances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w number and frequency of contact with relatives/friends (not because don’t want to see them/see them often enough) (12.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2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Social Participation (Activities)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n't do 4+ social activities from list of 9, because can't afford or other constraint reason (e.g. time, childcare) (19.4%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1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Health (&amp; Wellbeing)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ntal illnes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 GH Scor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neral health ‘bad/v bad’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imiting l.t. illness/disab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alth limited partic (quite) a lo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NS general life satis &lt;5/10 (17.3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great is the overl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380360" y="565776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646200" y="1619280"/>
            <a:ext cx="7851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ments on overl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ession of ‘How much’ overlap depends on approach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discrete/threshold approach suggests lower than factor analysis of continuous variables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est ‘overlap’ %  is 37% (Housing &amp; Economic);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other high overlaps include: Social Activities &amp; Economic (33%); Social Activities &amp; Health (28%); Social Activities &amp; Employment (2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most overlapping domains are Social Activities and Health, followed by Economic and then Housing/Crime/Employ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mains most associated with ‘Multiple Social Disadvantage’ are Social Activities, Economic and Housing (see next slid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mains least associated with MSD, and least overlapping, are Services and Education (altho’ latter poorly measur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ssociation of Domains with Multiple Social Disadvan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256000" cy="476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00:53Z</dcterms:created>
  <dc:creator>Nick Bailey</dc:creator>
  <dc:description/>
  <dc:language>en-US</dc:language>
  <cp:lastModifiedBy>User</cp:lastModifiedBy>
  <dcterms:modified xsi:type="dcterms:W3CDTF">2014-08-31T10:23:10Z</dcterms:modified>
  <cp:revision>89</cp:revision>
  <dc:subject/>
  <dc:title>PSE Conference slide</dc:title>
</cp:coreProperties>
</file>